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5B6-3E0F-4EBE-8996-36B086C4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efs, Dolphins, and Ea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8C08-E5D5-4892-BB8B-7D7017B748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4A0-109E-479F-8AE7-51E870B9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7A0-54E5-4A02-B63D-74C8098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F39-3141-4F5B-91C6-D819C33F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590-87EA-4927-976E-186A0343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CFD-10E8-4719-BA62-0B394C1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51C-BAFF-4547-B35B-5B687BB2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215-3266-43D5-93A1-6D68795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009-3350-4727-A8F8-FA60F9E5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0DC-876B-4FD3-96EB-CF4AC12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EC9-4D2A-4F92-AAFC-180385C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21C-A4A1-4577-9478-BAD6F25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79D-09B9-4D70-8D70-D2D1546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54B-CF9D-4211-9BE5-1415B88A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arcourtschool.com/activity/acids/" TargetMode="External"/><Relationship Id="rId2" Type="http://schemas.openxmlformats.org/officeDocument/2006/relationships/hyperlink" Target="http://www.harcourtschool.com/activity/acids/" TargetMode="External"/><Relationship Id="rId3" Type="http://schemas.openxmlformats.org/officeDocument/2006/relationships/hyperlink" Target="http://www.harcourtschool.com/activity/acids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iamisci.org/ph/cabbagebig.gif&amp;imgrefurl=http://www.miamisci.org/ph/phcabbage.html&amp;h=143&amp;w=180&amp;prev=/images%3Fq%3Dred%2Bcabbage%26svnum%3D10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iamisci.org/ph/cabbagebig.gif&amp;imgrefurl=http://www.miamisci.org/ph/phcabbage.html&amp;h=143&amp;w=180&amp;prev=/images%3Fq%3Dred%2Bcabbage%26svnum%3D10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/2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92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arcourtschool.com</a:t>
            </a: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activity/acids/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006560"/>
            <a:ext cx="807696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is pH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561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e the pH scale to determine what substance is in each test tube during this computer simul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429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ck practice measuring pH using a pH Scal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18643800">
            <a:off x="3139920" y="2879640"/>
            <a:ext cx="5175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lete this table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5626" t="18753" r="15626" b="14584"/>
          <a:stretch/>
        </p:blipFill>
        <p:spPr>
          <a:xfrm>
            <a:off x="0" y="-7632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4168" t="15557" r="10833" b="2111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52280" y="152280"/>
            <a:ext cx="8763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abbage Patch Indicato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5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72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533600"/>
            <a:ext cx="1600200" cy="4804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pH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your answer if it is off by more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877800">
            <a:off x="5486400" y="2534760"/>
            <a:ext cx="3124080" cy="302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ongest base we tested during this lab activity was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72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8520" y="2057400"/>
            <a:ext cx="30477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Baking 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oothp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nt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h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Am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m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905120"/>
            <a:ext cx="3657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istille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rn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hamp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ish 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133720"/>
            <a:ext cx="28958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Grapefruit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Vitam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Vinegar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Lemon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range 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" y="609840"/>
            <a:ext cx="9143640" cy="1428120"/>
            <a:chOff x="360" y="609840"/>
            <a:chExt cx="9143640" cy="1428120"/>
          </a:xfrm>
        </p:grpSpPr>
        <p:sp>
          <p:nvSpPr>
            <p:cNvPr id="178" name=""/>
            <p:cNvSpPr/>
            <p:nvPr/>
          </p:nvSpPr>
          <p:spPr>
            <a:xfrm rot="10800000">
              <a:off x="8371440" y="609840"/>
              <a:ext cx="643680" cy="141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7727760" y="609840"/>
              <a:ext cx="643680" cy="14194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7083720" y="609840"/>
              <a:ext cx="644040" cy="14194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6439680" y="609840"/>
              <a:ext cx="643680" cy="14194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5796000" y="609840"/>
              <a:ext cx="643680" cy="141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5151960" y="609840"/>
              <a:ext cx="644040" cy="141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4507920" y="609840"/>
              <a:ext cx="643680" cy="14194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864240" y="609840"/>
              <a:ext cx="643680" cy="14194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3220200" y="609840"/>
              <a:ext cx="644040" cy="141948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2576160" y="609840"/>
              <a:ext cx="643680" cy="141948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1932480" y="609840"/>
              <a:ext cx="643680" cy="1419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1288080" y="609840"/>
              <a:ext cx="644040" cy="141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644400" y="609840"/>
              <a:ext cx="643680" cy="141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360" y="609840"/>
              <a:ext cx="643680" cy="141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8959320" y="1333800"/>
              <a:ext cx="18468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520" y="0"/>
            <a:ext cx="90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eutral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31253" t="59482" r="32031" b="19319"/>
          <a:stretch/>
        </p:blipFill>
        <p:spPr>
          <a:xfrm>
            <a:off x="0" y="21337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6324480"/>
            <a:ext cx="8839440" cy="86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ace below, use arrows to indicate the pH of the substances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 your pH chart to match the Cabbage Juice scale at your lab table.  Don’t worry about a perfect match, just be sure to show the change in color as you travel from pH 1 to pH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8447040" y="2512800"/>
            <a:ext cx="644400" cy="89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7802640" y="2512800"/>
            <a:ext cx="642960" cy="8967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7159680" y="2512800"/>
            <a:ext cx="644400" cy="896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515280" y="2512800"/>
            <a:ext cx="644400" cy="896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5869080" y="2512800"/>
            <a:ext cx="642960" cy="89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5226120" y="2512800"/>
            <a:ext cx="644400" cy="896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4581000" y="2512800"/>
            <a:ext cx="644760" cy="8967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36960" y="2514240"/>
            <a:ext cx="642960" cy="8967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293640" y="2514240"/>
            <a:ext cx="644760" cy="89676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2649600" y="2514240"/>
            <a:ext cx="642960" cy="89676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2006640" y="2514240"/>
            <a:ext cx="644400" cy="896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1362240" y="2514240"/>
            <a:ext cx="644400" cy="89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717480" y="2514240"/>
            <a:ext cx="642960" cy="8967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74160" y="2514240"/>
            <a:ext cx="644760" cy="896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9032760" y="2979360"/>
            <a:ext cx="1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258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  2    3   4   5   6   7   8   9  10 11 12  13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45600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bbing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51372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71136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130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n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52736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h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15108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56016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on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91320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186048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69388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1796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4596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4" idx="3"/>
            <a:endCxn id="201" idx="0"/>
          </p:cNvCxnSpPr>
          <p:nvPr/>
        </p:nvCxnSpPr>
        <p:spPr>
          <a:xfrm flipH="1" flipV="1">
            <a:off x="6190920" y="3411000"/>
            <a:ext cx="2088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5" idx="3"/>
            <a:endCxn id="198" idx="0"/>
          </p:cNvCxnSpPr>
          <p:nvPr/>
        </p:nvCxnSpPr>
        <p:spPr>
          <a:xfrm flipH="1" flipV="1">
            <a:off x="8124480" y="3411000"/>
            <a:ext cx="6408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6" idx="3"/>
            <a:endCxn id="204" idx="0"/>
          </p:cNvCxnSpPr>
          <p:nvPr/>
        </p:nvCxnSpPr>
        <p:spPr>
          <a:xfrm flipV="1">
            <a:off x="3387240" y="3412440"/>
            <a:ext cx="87228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3"/>
            <a:endCxn id="202" idx="0"/>
          </p:cNvCxnSpPr>
          <p:nvPr/>
        </p:nvCxnSpPr>
        <p:spPr>
          <a:xfrm flipH="1" flipV="1">
            <a:off x="5547960" y="3411000"/>
            <a:ext cx="5472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8" idx="3"/>
            <a:endCxn id="204" idx="0"/>
          </p:cNvCxnSpPr>
          <p:nvPr/>
        </p:nvCxnSpPr>
        <p:spPr>
          <a:xfrm flipV="1">
            <a:off x="4226040" y="3412440"/>
            <a:ext cx="3384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08" idx="0"/>
          </p:cNvCxnSpPr>
          <p:nvPr/>
        </p:nvCxnSpPr>
        <p:spPr>
          <a:xfrm flipV="1">
            <a:off x="1634760" y="3412440"/>
            <a:ext cx="5004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3" idx="3"/>
            <a:endCxn id="204" idx="0"/>
          </p:cNvCxnSpPr>
          <p:nvPr/>
        </p:nvCxnSpPr>
        <p:spPr>
          <a:xfrm flipH="1" flipV="1">
            <a:off x="4258800" y="3412440"/>
            <a:ext cx="2721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0" idx="3"/>
            <a:endCxn id="204" idx="0"/>
          </p:cNvCxnSpPr>
          <p:nvPr/>
        </p:nvCxnSpPr>
        <p:spPr>
          <a:xfrm flipH="1" flipV="1">
            <a:off x="4258800" y="3412440"/>
            <a:ext cx="7293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1" idx="3"/>
            <a:endCxn id="206" idx="0"/>
          </p:cNvCxnSpPr>
          <p:nvPr/>
        </p:nvCxnSpPr>
        <p:spPr>
          <a:xfrm flipV="1">
            <a:off x="2935080" y="3412440"/>
            <a:ext cx="3708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2" idx="3"/>
            <a:endCxn id="204" idx="0"/>
          </p:cNvCxnSpPr>
          <p:nvPr/>
        </p:nvCxnSpPr>
        <p:spPr>
          <a:xfrm flipV="1">
            <a:off x="3768840" y="3412440"/>
            <a:ext cx="4910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3"/>
            <a:endCxn id="200" idx="0"/>
          </p:cNvCxnSpPr>
          <p:nvPr/>
        </p:nvCxnSpPr>
        <p:spPr>
          <a:xfrm flipH="1" flipV="1">
            <a:off x="6837120" y="3411000"/>
            <a:ext cx="5616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4" idx="3"/>
            <a:endCxn id="207" idx="0"/>
          </p:cNvCxnSpPr>
          <p:nvPr/>
        </p:nvCxnSpPr>
        <p:spPr>
          <a:xfrm flipV="1">
            <a:off x="2320920" y="3412440"/>
            <a:ext cx="86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15000" t="0" r="6667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09480" y="128520"/>
            <a:ext cx="9907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on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1285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128520"/>
            <a:ext cx="838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28520"/>
            <a:ext cx="9144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 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1285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152280"/>
            <a:ext cx="10670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587760"/>
            <a:ext cx="1143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ng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58776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587760"/>
            <a:ext cx="8380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h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3587760"/>
            <a:ext cx="990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587760"/>
            <a:ext cx="12193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3587760"/>
            <a:ext cx="9144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838080"/>
            <a:ext cx="3886200" cy="1752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71600" y="114300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838080"/>
            <a:ext cx="3886200" cy="1752840"/>
          </a:xfrm>
          <a:prstGeom prst="ellipse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486400" y="114300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4495680"/>
            <a:ext cx="2971800" cy="1752840"/>
          </a:xfrm>
          <a:prstGeom prst="ellipse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4800600"/>
            <a:ext cx="1689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4419720"/>
            <a:ext cx="5257800" cy="198108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54360" y="4724280"/>
            <a:ext cx="298944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342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5791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15626" t="18753" r="15626" b="14584"/>
          <a:stretch/>
        </p:blipFill>
        <p:spPr>
          <a:xfrm>
            <a:off x="0" y="-763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34340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-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838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1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on Juice, Soda, and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king Soda, Cheer, Dish Soap, and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n Starch, Distilled Water, Rubbing Alcohol, Salt, and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Lemon Juice    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Vinegar     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-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Cheer    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Ammonia     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Baking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562000" cy="609480"/>
            <a:chOff x="76320" y="76320"/>
            <a:chExt cx="5562000" cy="609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283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392120" y="150120"/>
              <a:ext cx="4246200" cy="48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66680" y="317016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are homework with lab partn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68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 Demonstr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lan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808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01640"/>
            <a:ext cx="914400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hat is p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 Answer the 9 question on back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using complete sentence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*Also indicate which section your answer came fr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E FRIDAY – Answer questions 1-5 tonight and 6-9 tomorrow night…or do all 9 tonight…don’t procrastin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96156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hat is pH?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Read Article and answer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a pH below 7…lemon juice, soda, and vinegar can all be classified as 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316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3880" y="152280"/>
            <a:ext cx="6019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H Demonstration Expla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882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:  Fill in the blanks using the word bank provided to explain the pH demonstration you saw today in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9092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not magic, it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liquid in the first 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ed the same wh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ice was added and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that it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liquid in the second 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ing that it w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inal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quid in the third glass tur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meant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quid w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ed cabbage ju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indicates whether a substance is acid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, or neutral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23880"/>
            <a:ext cx="9144000" cy="13341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b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or                                                                    b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6200" y="316224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bb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66880" y="369576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42670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5880" y="42670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00600" y="48006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5372280"/>
            <a:ext cx="137160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43400" y="5372280"/>
            <a:ext cx="137160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ol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590544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ica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95480" y="643896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ng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9301" t="16929" r="34570" b="21869"/>
          <a:stretch/>
        </p:blipFill>
        <p:spPr>
          <a:xfrm>
            <a:off x="3276720" y="1295280"/>
            <a:ext cx="281916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26371" t="17963" r="38478" b="22140"/>
          <a:stretch/>
        </p:blipFill>
        <p:spPr>
          <a:xfrm>
            <a:off x="6324480" y="129528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28323" t="15625" r="34570" b="24471"/>
          <a:stretch/>
        </p:blipFill>
        <p:spPr>
          <a:xfrm>
            <a:off x="152280" y="1295280"/>
            <a:ext cx="289584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012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5252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440" y="228600"/>
            <a:ext cx="8724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bage Juice Indicator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5029200"/>
            <a:ext cx="8534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you know about these liquid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pH Demonstration Explanation Check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bage Patch Indicator Lab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H? Read article and answer questions in complet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H? Read article and answer questions in complete sentences. (Due Fri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cids and b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5587FA4A-967C-4DC0-9A5C-1C20490F5783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information gathered from investigations to classify materials as acidic, basic, or neutral using the pH sca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44920" y="444600"/>
            <a:ext cx="46483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0"/>
            <a:ext cx="23875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61800"/>
            <a:ext cx="4038480" cy="65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 the substances from  1-12 as it has been done on the one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he pH of each substance by determining whether you think each substance is 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Strong Acid (pH 1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Weak Acid (pH 4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Neutral Substance (pH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Weak Base (8-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Strong Base (1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749" t="30393" r="64454" b="20835"/>
          <a:stretch/>
        </p:blipFill>
        <p:spPr>
          <a:xfrm>
            <a:off x="533520" y="76320"/>
            <a:ext cx="2286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762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7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2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1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110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762120"/>
            <a:ext cx="5410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refully fill each well about half-way with th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correctl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numbered substan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"/>
              </a:rPr>
              <a:t>Cabbage Patch Indic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ly fill the wells halfway with all of the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o your seat and place your substances in the center of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5-6 drops of cabbage juice to each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each sample to your cabbage juice color chart and record your results on your lab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n up your lab area (neater than it was to begin) and use any remaining time to complete your lab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320" y="867240"/>
            <a:ext cx="9140400" cy="1164600"/>
            <a:chOff x="76320" y="867240"/>
            <a:chExt cx="9140400" cy="1164600"/>
          </a:xfrm>
        </p:grpSpPr>
        <p:sp>
          <p:nvSpPr>
            <p:cNvPr id="114" name=""/>
            <p:cNvSpPr/>
            <p:nvPr/>
          </p:nvSpPr>
          <p:spPr>
            <a:xfrm rot="10800000">
              <a:off x="8446680" y="867240"/>
              <a:ext cx="643680" cy="896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7803000" y="867240"/>
              <a:ext cx="643680" cy="8960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7158960" y="867240"/>
              <a:ext cx="644040" cy="8960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6514920" y="867240"/>
              <a:ext cx="643680" cy="8960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871240" y="867240"/>
              <a:ext cx="643680" cy="896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227200" y="867240"/>
              <a:ext cx="644040" cy="896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4583520" y="867240"/>
              <a:ext cx="643680" cy="8960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3939840" y="867240"/>
              <a:ext cx="643680" cy="89604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3295800" y="867240"/>
              <a:ext cx="644040" cy="89604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651760" y="867240"/>
              <a:ext cx="643680" cy="8960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2008080" y="867240"/>
              <a:ext cx="643680" cy="8960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1364040" y="867240"/>
              <a:ext cx="644040" cy="896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720000" y="867240"/>
              <a:ext cx="643680" cy="8960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76320" y="867240"/>
              <a:ext cx="643680" cy="896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9034560" y="1330200"/>
              <a:ext cx="182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20" y="1600200"/>
            <a:ext cx="90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eutral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761760" cy="73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32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  2    3   4   5   6   7   8   9  10 11 12  13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19:52Z</dcterms:created>
  <dc:creator>CCPS</dc:creator>
  <dc:description/>
  <dc:language>en-US</dc:language>
  <cp:lastModifiedBy>CCPS</cp:lastModifiedBy>
  <dcterms:modified xsi:type="dcterms:W3CDTF">2010-02-24T19:20:40Z</dcterms:modified>
  <cp:revision>1</cp:revision>
  <dc:subject/>
  <dc:title>Slide 1</dc:title>
</cp:coreProperties>
</file>